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D1FF5-98F9-4637-98E1-17B4BFD6172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8A4BF-1213-4043-B1B9-C69093F8900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D7B1-A996-4825-AF48-C9A030822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F7FD-C7DC-4CBF-9217-CA80F4D41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2CF7-2934-40FF-A312-2C701D6C7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FF0D-AF96-4C00-8965-E2A818D3A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05E1-741C-41E8-A843-2B7D4952D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DF2C-E432-4494-A5F6-01A688FC1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2062-F48D-41A6-A891-7A2542261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9267-BED2-4652-9A4D-6FBCD9FE0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0719-93E4-4760-A404-8EA118C77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E672-7654-4B62-953D-4B97C783F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5317-D331-426A-8E76-71808F355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B6D1-DCF4-4FC8-858F-50F05BF54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71D0D-EDC2-409C-A09D-52736B1E76C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riting the Discussion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(Simon Capewell, Day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197000"/>
            <a:ext cx="8507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. start with the abstract, refine th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his helps identify key issues around WHY, HOW, WHAT found, WHAT does it me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RESCAP MED and Liverpo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24000" y="907560"/>
            <a:ext cx="864072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Main Rol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Fellowships program (hos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revious successful and productive experience in introducing young researchers to public health policy decision making and modell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o-participants in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Marie Curie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roject led by Kath Bennet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Collaboration with researchers in Portugal, Denmark, Holland, Sp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MedCHAMPS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experience helping develop public health &amp; modelling skills within four national teams: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Developed &amp; implemented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alibri"/>
              </a:rPr>
              <a:t>CHD, diabetes &amp; Stroke models</a:t>
            </a:r>
            <a:r>
              <a:rPr b="1" lang="en-GB" sz="16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Syria, Palestine Tunisia</a:t>
            </a: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 &amp;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urkey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Strong support for consolidating  &amp; expanding  the understanding of Public Health Policy Modelling in the region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as a tool that facilitates dialogue with policy stakehold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riting the Discussion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(Simon Capewell, Day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1970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. start with the abstract. Refine th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This helps identify key issues around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WHY, HOW, WHAT found, WHAT does it me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B. Draft outline points for each section in Discu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C: Create bullet points for each paragrap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D: Turn bullet points into tex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: Refine &amp; polish text. Most important sentences: FIRST, and L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riting the Discussion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(Simon Capewell, Day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197000"/>
            <a:ext cx="8507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. start with the abstract, refine th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his helps identify key issues around WHY, HOW, WHAT found, WHAT does it me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B. Draft outline points for each section in Discuss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1: main message(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2: Comparison with other stud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3: Expand on key messages (optiona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4: Strengths &amp; Weaknesses (limitation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5: Implications for: clinicians; public health professionals; policy mak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riting the Discussion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(Simon Capewell, Day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1970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. start with the abstract. Refine th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This helps identify key issues around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WHY, HOW, WHAT found, WHAT does it me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B. Draft outline points for each section in Discu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C: Create bullet points for each paragrap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D: Turn bullet points into tex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: Refine &amp; polish. Most important sentences: FIRST, and L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SCAP-MED: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University of Liverpo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United Kingdo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0" y="1600200"/>
            <a:ext cx="439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Pop: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62 mill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orld 7</a:t>
            </a:r>
            <a:r>
              <a:rPr b="0" lang="en-GB" sz="2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largest economy (GDP &amp; purchasing power parity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VD remains biggest kill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bout 190,000 deaths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er ye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estimated cost $45 billion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er ye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2012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Queen Diamond Jubile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ummer Olympic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lease visit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map uk"/>
          <p:cNvPicPr/>
          <p:nvPr/>
        </p:nvPicPr>
        <p:blipFill>
          <a:blip r:embed="rId1"/>
          <a:stretch/>
        </p:blipFill>
        <p:spPr>
          <a:xfrm>
            <a:off x="468360" y="1484280"/>
            <a:ext cx="3959280" cy="4903920"/>
          </a:xfrm>
          <a:prstGeom prst="rect">
            <a:avLst/>
          </a:prstGeom>
          <a:ln w="0">
            <a:noFill/>
          </a:ln>
        </p:spPr>
      </p:pic>
      <p:sp>
        <p:nvSpPr>
          <p:cNvPr id="63" name="Oval 4"/>
          <p:cNvSpPr/>
          <p:nvPr/>
        </p:nvSpPr>
        <p:spPr>
          <a:xfrm>
            <a:off x="2627280" y="4365720"/>
            <a:ext cx="504720" cy="2872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University of Liverpool </a:t>
            </a:r>
            <a:br>
              <a:rPr sz="3200"/>
            </a:b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Department of Public Health &amp; Polic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770280" y="1600200"/>
            <a:ext cx="512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partment of Public Health and Policy is home to many discipli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search them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Inequalities-Social context and consequences of ill-healt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Clinical effectiven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Health impact assess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ndergraduate and graduate medical educati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Successful MPH progr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(on campus,</a:t>
            </a: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 &amp;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on-lin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PhD program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http://pcwww.liv.ac.uk/avam/Images/Vic_theme.jpg"/>
          <p:cNvPicPr/>
          <p:nvPr/>
        </p:nvPicPr>
        <p:blipFill>
          <a:blip r:embed="rId1"/>
          <a:stretch/>
        </p:blipFill>
        <p:spPr>
          <a:xfrm>
            <a:off x="395280" y="2349360"/>
            <a:ext cx="350856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Our T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2276280"/>
            <a:ext cx="41148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rof Simon Capewell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Chair of Clinical Epidemiolog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Content Placeholder 2"/>
          <p:cNvSpPr/>
          <p:nvPr/>
        </p:nvSpPr>
        <p:spPr>
          <a:xfrm>
            <a:off x="4788000" y="2276640"/>
            <a:ext cx="41148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r Martin O’Flah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Lecturer in Epidemi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250920" y="3349800"/>
            <a:ext cx="87138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Our Research Interes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Examining what drives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ardiovascular disease (CVD) mortality rates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in a range of high, middle &amp; low income countrie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The development of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effective and cost-saving cardiovascular prevention strategies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in the UK and beyond: building on empirical evidence, policy analyses, and quantitative model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How best to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elp policy makers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develop effective non-communicable disease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revention strategies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in low, middle &amp; high- income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http://images.clickliverpool.com/admin/article/articleimages/1316448194-SimonCapewell-web.jpg"/>
          <p:cNvPicPr/>
          <p:nvPr/>
        </p:nvPicPr>
        <p:blipFill>
          <a:blip r:embed="rId1"/>
          <a:stretch/>
        </p:blipFill>
        <p:spPr>
          <a:xfrm>
            <a:off x="1476360" y="333360"/>
            <a:ext cx="1181160" cy="1781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http://s3.amazonaws.com/mendeley-photos/94/4e/944e4aa0f0971342c4fa11109483acab1ade1979std.png"/>
          <p:cNvPicPr/>
          <p:nvPr/>
        </p:nvPicPr>
        <p:blipFill>
          <a:blip r:embed="rId2"/>
          <a:stretch/>
        </p:blipFill>
        <p:spPr>
          <a:xfrm>
            <a:off x="6300720" y="404640"/>
            <a:ext cx="120348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6T14:37:00Z</dcterms:created>
  <dc:creator>Martin O'Flaherty</dc:creator>
  <dc:description/>
  <dc:language>en-US</dc:language>
  <cp:lastModifiedBy>Simon Capewell</cp:lastModifiedBy>
  <dcterms:modified xsi:type="dcterms:W3CDTF">2013-09-14T16:11:25Z</dcterms:modified>
  <cp:revision>9</cp:revision>
  <dc:subject/>
  <dc:title>RESCAP-MED: University of Liverpool</dc:title>
</cp:coreProperties>
</file>